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A723-444A-4807-B8D7-F98EF4423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358F-1864-4CB9-908C-A8547DFD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22FE-BB07-4199-B1EC-269027648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A19F-F3F2-4C7A-9BEF-4E5F9F646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A8C6-582D-465C-A6AE-F091BAD3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AFBF-706B-4A35-A3E3-5BAF4719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6FB9-FEBC-4D81-8E4D-087FAFBA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2A14-71FE-431C-8E1B-9E9EB38B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05A5-AABD-466F-B2D8-68E78F16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BBAF-5080-497A-9DAB-3D3A4B16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A10E-F26D-45EF-8D98-37B4B9EF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66F8-E028-4F6A-97D2-EC4AA8B2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750F-6405-4AEC-A449-2C305394A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Clase 6NH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23 de may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62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A ti te gusta la mus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5"/>
          <p:cNvSpPr/>
          <p:nvPr/>
        </p:nvSpPr>
        <p:spPr>
          <a:xfrm>
            <a:off x="0" y="21798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omes mucho cuando estas enfermo(a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ienes mucho apetito cuando estas enfermo(a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omas muchos líquidos cuando estas enfermo(a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Guardas cama cuando estas enfermo(a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a y responde e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58 (1-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58 (1-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BO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e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 muchacho enferm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60 (1-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BOO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a p. 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533520" y="2286000"/>
            <a:ext cx="82296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area # 62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00:39:42Z</dcterms:created>
  <dc:creator>Helen Zumaeta</dc:creator>
  <dc:description/>
  <dc:language>en-US</dc:language>
  <cp:lastModifiedBy>Helen Zumaeta</cp:lastModifiedBy>
  <dcterms:modified xsi:type="dcterms:W3CDTF">2013-05-21T13:14:13Z</dcterms:modified>
  <cp:revision>20</cp:revision>
  <dc:subject/>
  <dc:title>Me llamo ________ Clase 7 im La fecha es el 13 de mayo del 2011</dc:title>
</cp:coreProperties>
</file>